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9874250" cy="6724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874800" cy="672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592240" y="-36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255840" y="504360"/>
            <a:ext cx="3362400" cy="252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638604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592240" y="638604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692AD-ACCB-42E2-ACB2-C5A41BA8F7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E6D53-40F5-410B-8A14-2ADEA7108A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C80A6-45CF-4E6D-B0FB-8369714BDB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B3DDF-34B6-47B9-9046-8EBFD50561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E4014-2EC7-43A4-B71C-4D427CD75C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4249D-7E77-462E-94F5-24851973A4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9DFCC-5F4B-477F-8C2C-42F5401A4D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21FB8-B6DF-4DFE-A919-C2BD23519D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30CC6-5F75-480C-84B1-B4ADA6DA6F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3172C-704E-4FDD-BA82-167C0E7359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EDDA8-891F-410A-99D5-40748C5987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58195-9DF5-4BE8-844E-B927F62A6D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C00AA-9B0A-4868-BE9A-A7F4947BA5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E0863-B0D0-44B5-A33F-B9D5BCBD8A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D7EC1-4ECB-410D-A131-2FD7A91289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1B15E-8CA4-4B0B-9BC6-88790511DC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C3676-2A2E-417A-BA5F-1FDC653FC8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4AC8B-6739-4C56-8F64-9F52C98D7B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99E4A-F994-4F90-AF0A-3A3C48070E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E7CEC-E550-4C9F-9935-937B1774CC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0C0DF-791F-469C-838C-70351CB820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0F359-E9B4-429D-AD8A-CF9161E2AE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985F-D2CD-4723-9690-9FB739CB2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BA59-2322-48F4-8314-26B3ED658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C382-0C9C-46EC-A1FD-D422E54D8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E3BB-DE19-4553-8D59-F46CD6DF2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EEEC-D63E-4042-995A-D86CFE974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18DF-1C8E-4B43-84D4-0D7120EEA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ACE1-E6A8-41DC-9240-854CB69D8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0494-33FC-4CBD-A6EE-63D96B74B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421E-FCAB-4388-AEFA-1DB5051DB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8A61-C9F2-4221-9F49-B03EE6BC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2D21-8FC8-4B56-95C8-958D0454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F651-1195-492C-BB96-19EE38353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A1A0C-E461-45A0-A894-B3876FB6F58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4" descr=""/>
          <p:cNvPicPr/>
          <p:nvPr/>
        </p:nvPicPr>
        <p:blipFill>
          <a:blip r:embed="rId2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7" name="TextBox 13"/>
          <p:cNvSpPr/>
          <p:nvPr/>
        </p:nvSpPr>
        <p:spPr>
          <a:xfrm>
            <a:off x="1258920" y="-33480"/>
            <a:ext cx="3817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Projekt na ciljane prihode od kriminal na internetu u Jugoistočnoj Europi i Turskoj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3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55" name="TextBox 13"/>
          <p:cNvSpPr/>
          <p:nvPr/>
        </p:nvSpPr>
        <p:spPr>
          <a:xfrm>
            <a:off x="1258920" y="-33480"/>
            <a:ext cx="3817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Projekt na ciljane prihode od kriminal na internetu u Jugoistočnoj Europi i Turskoj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0" y="6813720"/>
            <a:ext cx="9180360" cy="58680"/>
          </a:xfrm>
          <a:prstGeom prst="rect">
            <a:avLst/>
          </a:prstGeom>
          <a:gradFill rotWithShape="0">
            <a:gsLst>
              <a:gs pos="0">
                <a:srgbClr val="133555"/>
              </a:gs>
              <a:gs pos="100000">
                <a:srgbClr val="2861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5"/>
          <p:cNvSpPr/>
          <p:nvPr/>
        </p:nvSpPr>
        <p:spPr>
          <a:xfrm>
            <a:off x="-36360" y="6669000"/>
            <a:ext cx="9180360" cy="239760"/>
          </a:xfrm>
          <a:prstGeom prst="rect">
            <a:avLst/>
          </a:prstGeom>
          <a:gradFill rotWithShape="0">
            <a:gsLst>
              <a:gs pos="0">
                <a:srgbClr val="133555"/>
              </a:gs>
              <a:gs pos="100000">
                <a:srgbClr val="2861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2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pologije tokova novca od internet krimina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sija 1.4.2/Čas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Elektronski transfer, preuzimanje/otvaranje bankovnih račun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dicionalne bankarske uslu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sokotehnološki kriminalci se i dalje oslanjaju na tradicionalne bankarske uslu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vo je očigledno naročito značajno u slučajevima koji uključuju izvlačenje novca sa bankovnih računa žrt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dicionalne bankarske uslu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U okviru tradicionalnog bankarskog sektora, koje tehnike se mogu iskoristiti kako bi se izbegli izvori sredstava izvučeni sa bankovnog računa žrtv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pologija elektronskog transfe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Bankovni računi žrtava su kompromitovani kroz različite tehnike visokotehnološkog kriminala (npr. </a:t>
            </a:r>
            <a:r>
              <a:rPr b="0" i="1" lang="sr-Latn-BA" sz="2500" spc="-1" strike="noStrike">
                <a:solidFill>
                  <a:srgbClr val="000000"/>
                </a:solidFill>
                <a:latin typeface="Calibri"/>
              </a:rPr>
              <a:t>phishing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mal</a:t>
            </a:r>
            <a:r>
              <a:rPr b="0" i="1" lang="sr-Latn-BA" sz="2500" spc="-1" strike="noStrike">
                <a:solidFill>
                  <a:srgbClr val="000000"/>
                </a:solidFill>
                <a:latin typeface="Calibri"/>
              </a:rPr>
              <a:t>war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Novi korisnici su dodati na bankovni račun žrtve i sredstva se prenose na račune krijumčar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redstva se povlače u gotovini ili prenose u druga odredišt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ransferi se vrše u malim iznosima kako bi se izbegli pragovi izveštavanj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Kompleksne strukture beznačajnih transfera na raču</a:t>
            </a:r>
            <a:r>
              <a:rPr b="0" lang="sr-Latn-BA" sz="25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 krijumčara koriste se da za</a:t>
            </a:r>
            <a:r>
              <a:rPr b="0" lang="sr-Latn-BA" sz="2500" spc="-1" strike="noStrike">
                <a:solidFill>
                  <a:srgbClr val="000000"/>
                </a:solidFill>
                <a:latin typeface="Calibri"/>
              </a:rPr>
              <a:t>tamn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izvore sredstav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Zaštita klijen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8360" y="2491920"/>
            <a:ext cx="8229600" cy="34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Koje kontrole koriste finansijske institucije kako bi sprečile zloupotrebu kompromitovanih akreditiva klijenta za </a:t>
            </a:r>
            <a:r>
              <a:rPr b="0" lang="sr-Latn-BA" sz="3200" spc="-1" strike="noStrike">
                <a:solidFill>
                  <a:srgbClr val="000000"/>
                </a:solidFill>
                <a:latin typeface="Calibri"/>
              </a:rPr>
              <a:t>interne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ankarstvo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413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acija upotrebe elektronskih transfe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Koji izvori dokaza mogu biti korišćeni kako bi se naznačila upotreba elektronskih transfer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acija upotrebe elektronskih transfe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Koja procesna ovlašćenja su dostupna / relevantna za identifikaciju / korišćenje elektronskih transfer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ovlačenja gotovi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akave izazove pruža gotovina visokotehnološkim kriminalcim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Šta VI mislit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pologija povlačenja gotov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U nekim slučajevima visokotehnološkog kriminala, kao što je kriminal vezan za platne kartice, prihodi od kriminala se odmah povlače u gotovini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U drugim slučajevima, prihodi od kriminala iz drugih oblika kriminala se prenose na račune krijumča</a:t>
            </a:r>
            <a:r>
              <a:rPr b="0" lang="sr-Latn-BA" sz="27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 sa kojih se povlač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otovina se obično ponovo unosi u finansijske sisteme kroz razne tehnike kao što su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upovina pripejd kartica raznih vrsta (npr. kredit za kupovinu, kredit za mobilne telefone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orišćenje krijumčara novca ili kompromitovanih bankovnih raču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ljevi sesi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 objasne tipologiju kriminalnog toka novca korišćenja novčanih krijumčar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vaoci novčanih dozna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ektronski transferi, preuzimanje/otvaranje račun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dizanja gotov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vaoci internet uslu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acija povlačenja gotov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Koji izvori dokaza se mogu koristiti da bi se naznačila upotreba podizanja gotovin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acija korištenja povlačenja gotov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Koja procesna ovlašćenja su dostupna / relevantna za identifikaciju / korišćenje podizanja gotovin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Usluge plaćanja preko </a:t>
            </a:r>
            <a:r>
              <a:rPr b="1" lang="sr-Latn-BA" sz="4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nterne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70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Šta je to usluga plaćanja preko </a:t>
            </a:r>
            <a:r>
              <a:rPr b="0" lang="sr-Latn-BA" sz="4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ternet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Šta VI mislit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pologija usluga plaćanja preko </a:t>
            </a:r>
            <a:r>
              <a:rPr b="0" lang="sr-Latn-BA" sz="4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terne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Kriminalno stečena sredstva se prenose na račun usluga plaćanja preko </a:t>
            </a:r>
            <a:r>
              <a:rPr b="0" lang="sr-Latn-BA" sz="3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terneta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ve opcij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lužba za plaćanje preko </a:t>
            </a:r>
            <a:r>
              <a:rPr b="0" lang="sr-Latn-BA" sz="2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terneta nudi usluge slične </a:t>
            </a:r>
            <a:r>
              <a:rPr b="0" lang="sr-Latn-BA" sz="2600" spc="-1" strike="noStrike">
                <a:solidFill>
                  <a:srgbClr val="000000"/>
                </a:solidFill>
                <a:latin typeface="Calibri"/>
              </a:rPr>
              <a:t>interne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bankovnom računu, u kom slučaju se koriste tipologije slične "elektronskom transferu / kreiranju ili prebacivanju bankovnih računa"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redstva koja se drže sa kod Služb</a:t>
            </a:r>
            <a:r>
              <a:rPr b="0" lang="sr-Latn-BA" sz="26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za plaćanje preko </a:t>
            </a:r>
            <a:r>
              <a:rPr b="0" lang="sr-Latn-BA" sz="2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terneta koriste </a:t>
            </a:r>
            <a:r>
              <a:rPr b="0" lang="sr-Latn-BA" sz="2600" spc="-1" strike="noStrike">
                <a:solidFill>
                  <a:srgbClr val="000000"/>
                </a:solidFill>
                <a:latin typeface="Calibri"/>
              </a:rPr>
              <a:t>se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za kupovinu proizvoda i usluga na </a:t>
            </a:r>
            <a:r>
              <a:rPr b="0" lang="sr-Latn-BA" sz="2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ternetu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acija usluga plaćanja preko </a:t>
            </a:r>
            <a:r>
              <a:rPr b="0" lang="sr-Latn-BA" sz="4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terne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Koji izvori dokaza mogu biti korišćeni kako bi se naznačila upotreba usluga plaćanja preko </a:t>
            </a:r>
            <a:r>
              <a:rPr b="0" lang="sr-Latn-BA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ternet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acija korišćenja usluga plaćanja preko </a:t>
            </a:r>
            <a:r>
              <a:rPr b="0" lang="sr-Latn-BA" sz="4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terne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Koja procesna ovlašćenja su dostupna / relevantna za identifikaciju / korišćenje usluga plaćanja preko </a:t>
            </a:r>
            <a:r>
              <a:rPr b="0" lang="sr-Latn-BA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ternet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Zamrzavanje, oduzimanje i konfiskovanje sredstava od usluga plaćanja preko </a:t>
            </a:r>
            <a:r>
              <a:rPr b="0" lang="sr-Latn-BA" sz="4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terne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Koja procesna ovlašćenja su dostupna / relevantna za zamrzavanje, oduzimanje i konfiskaciju sredstava koje poseduje davalac uluga plaćanja preko </a:t>
            </a:r>
            <a:r>
              <a:rPr b="0" lang="sr-Latn-BA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ternet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kapitulaci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 objasne tipologiju kriminalnog toka novca korišćenja novčanih krijumčar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vaoci novčanih dozna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ektronski transferi, preuzimanje/otvaranje račun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dizanja gotov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vaoci </a:t>
            </a:r>
            <a:r>
              <a:rPr b="0" lang="sr-Latn-BA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ternet uslu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16" name="TextBox 4"/>
          <p:cNvSpPr/>
          <p:nvPr/>
        </p:nvSpPr>
        <p:spPr>
          <a:xfrm>
            <a:off x="3527280" y="4500720"/>
            <a:ext cx="210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itanja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Davaoci novčanih doznak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o je davalac novčanih doznak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Šta VI mislit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55736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oje davalac novčanih doznak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U čemu je problem sa davaocima doznak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pologija davaoca dozna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zička lica (svesno i bez znanja) se regrutuju kao krijumčari za šemu pranja, često putem radnih mesta "posao kod kuće"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ihodi od kriminala se prenose na bankovne račune krijumčar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rijumčari podižu gotovinu i prenose gotovinu putem elektronskog transfera određenom korisniku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rijum</a:t>
            </a:r>
            <a:r>
              <a:rPr b="0" lang="sr-Latn-BA" sz="2200" spc="-1" strike="noStrike">
                <a:solidFill>
                  <a:srgbClr val="000000"/>
                </a:solidFill>
                <a:latin typeface="Calibri"/>
              </a:rPr>
              <a:t>čar, tzv. “mazga”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zadržava deo uplate kao proviziju za obavljanje ove uslug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ransferi su obično u iznosima koji manji od praga izveštavanja, kako bi se izbeglo otkrivanj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avaoci doznaka se ponovo koriste kako bi se gotovina prebacila na krajnje odredišt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pologija umešanog davao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ikovani su slučajevi kada je opsežna upotreba određenih davaoca doznaka izazvala zabrinutost zbog mogućeg dosluha ili infiltracije takvih poslov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acija korišćenja davaoca dozna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Koji se izvori dokaza mogu koristiti kako bi se ukazal</a:t>
            </a:r>
            <a:r>
              <a:rPr b="0" lang="sr-Latn-BA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na korišćenje davalaca doznak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acija korišćenja davaoca dozna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Koja procesna ovlašćenja su dostupna / relevantna za identifikaciju / korišćenje davalaca doznak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4T06:40:18Z</dcterms:created>
  <dc:creator>alexander</dc:creator>
  <dc:description/>
  <dc:language>en-US</dc:language>
  <cp:lastModifiedBy>Aleksandra</cp:lastModifiedBy>
  <cp:lastPrinted>2016-05-18T07:38:13Z</cp:lastPrinted>
  <dcterms:modified xsi:type="dcterms:W3CDTF">2017-10-10T13:33:32Z</dcterms:modified>
  <cp:revision>316</cp:revision>
  <dc:subject/>
  <dc:title>PowerPoint Presentation</dc:title>
</cp:coreProperties>
</file>